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4EEF-D204-4D29-97EB-4F2983B16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C4E3-94C3-40FD-A623-0556C8E9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2111-878E-447A-B801-8112F9FE7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66C4-0F90-4335-A911-EF664A858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2CA7-B689-414B-88DD-3BB58A28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B436-08ED-481F-AD86-477E66A9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7ABC-A32F-4B4E-AFA9-48833AAE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DDE3-921B-43DB-9348-5092FE16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74CE-CF40-4FB5-8C88-000D5111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AD4B-A116-4879-B04A-1167842D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3337-EFD1-447D-9DE7-2072D6F3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6CF6-C434-4D33-98A1-71E46CD8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A043-DDD9-4578-B690-FE10B8E92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520" y="304812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PHEdit2Ap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81280" y="304812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PHEdit2D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304812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in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91120" y="220968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HFile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91120" y="259092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v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038480" y="23619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90920" y="3200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95680" y="32004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2362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4038480" y="2743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05740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boutDl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350532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lug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62320" y="396252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taPlug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33720" y="3352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13336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13336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73392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lgMg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3886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76720" y="3657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41148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3886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2209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57800" y="350532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396252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ea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05520" y="33526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105160" y="3657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105160" y="4114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57800" y="487692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ame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05520" y="5029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62320" y="2514600"/>
            <a:ext cx="9903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SplashW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133720" y="22093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13336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57800" y="441972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A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105160" y="4572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914040" y="32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914040" y="32004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914040" y="31240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1T16:21:43Z</dcterms:created>
  <dc:creator>Kevin Bruckert</dc:creator>
  <dc:description/>
  <dc:language>en-US</dc:language>
  <cp:lastModifiedBy>Kevin Bruckert</cp:lastModifiedBy>
  <cp:lastPrinted>1998-02-11T16:42:03Z</cp:lastPrinted>
  <dcterms:modified xsi:type="dcterms:W3CDTF">1998-02-11T16:42:05Z</dcterms:modified>
  <cp:revision>2</cp:revision>
  <dc:subject/>
  <dc:title>No Slide Title</dc:title>
</cp:coreProperties>
</file>